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BC4-485B-4210-9457-DD9CB0F7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493-2598-48A4-9E8F-FAF627CA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18A-4000-4211-9AC7-00726308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7A3-87A7-404E-B3A6-82EFC7DB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0EB-6014-4EDB-B9AA-309D9D39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96B-D660-4C96-8B90-290F9AE8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90E-7E67-4479-83FA-71D72918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753-EADD-4057-BE76-E7B5719E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A7E-3820-470A-BE1A-A74C134C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28E-EE1D-4AEE-9344-DCEBE354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BD2-453D-4187-B701-3387FE83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F3A-DE00-4673-B9E7-F729DCC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4771_03_2002_Volpi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ologies for not using open sourc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6FF2-4690-497E-B58C-3C9255371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LS  MIB Review Sum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pplicability to GMPLS MIB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Nadea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nadeau@cisco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rian Far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farrel@movaz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rom MPLS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 Final Changes for MPLS MIBs requested by MIB Do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Interaction between MIB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S-TC, MPLS-LSR, MPLS-LDP, MPLS-TE, MPLS-FTN, TE-TE, LINK-BU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S MIB Overview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PLS interaction/sup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ACTION Items for Auth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LS MIB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Detail of Changes at IETF ID Tracker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://datatracker.ietf.org/public/pidtracker.c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inor Changes to base MPLS MI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 of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orial in Nature (split REFS, IPR stat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ew Significant Changes to base MPLS MI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d to work fine with GMPLS MI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/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to handle all GMPLS function in base GMPLS dra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ly conceived as extensions/aug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as getting messy so we went for “v2” MI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long while we had four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PLS 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PLS L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PLS 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PLS 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ly revised our approach to use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 for a long time by progress on MPLS MIBs, but will move forward as soon as MPLS MIBs are updated and moved to IESG for approval (very so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dra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PLS TC 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PLS TE 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PLS LSR 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gest Issue: How do we represent lab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PLS labels may be G.T. 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PLS labels may be concate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esirable to expose the contents of the label (e.g. SONET/SDH label fiel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the other MIB tables (e.g. LSR) reference labels through a type identifier and an index/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ype is one, label is in place (note: zero better for b/w compati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index points into Labe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Proposed Approach from MIB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ype field {packet/non-packet} + OctetString Index into label table wherever labels are refere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current MPLS labels to be represented in-line in OctetString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PLS “long” labels can be found in a table of Octet Strings that facilitate their potentially long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ssues and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s that match protocol fields will be managed by I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should not be media-specific tables for no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extensions for Sonet/SDH Sender T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MPLS features: Notify recipients, administrative statuses control (NOT MIB row AdminStatus!), Hello restart options, interface Id HOP/Error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orial/compilation/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/Action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update MPLS MIBs by 12/15  based on review Comments on latest MIBs. Resolution of any issues on email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MPLS Working Group “LAST, LAST, LAST Call” at tha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PLS MIBs updated thereafter, and certainly by March IETF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on GMPLS Management Overview document for March IETF meeting (have been waiting for MPLS MIBs to be sorted ou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8:27:44Z</dcterms:created>
  <dc:creator>jcucchiara</dc:creator>
  <dc:description/>
  <dc:language>en-US</dc:language>
  <cp:lastModifiedBy>rbonica</cp:lastModifiedBy>
  <dcterms:modified xsi:type="dcterms:W3CDTF">2002-11-21T13:58:20Z</dcterms:modified>
  <cp:revision>14</cp:revision>
  <dc:subject/>
  <dc:title>MPLS  MIB Review Summary </dc:title>
</cp:coreProperties>
</file>